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64C70-5369-4158-8EDC-EB5B1A36C0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17434-5B6C-40BE-8867-3A102F6F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0ED78-EF4E-4A88-AB7B-363135C0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6BD3A-FC66-421B-A22A-DD54A1E683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C668E-5991-446B-B061-6C9E81DC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BE059-974E-4551-A8DF-6459A326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7A238-39A7-40AA-8698-95902274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1190E-8860-4C42-9B7F-7F358A5B4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D5E01-BFC7-4420-BE4C-402056081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14520-C457-4BBC-8AEC-E97C7A83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3C8F7-CC01-4D42-B362-1E16EE8F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C8DB4-A201-43B6-A590-B7D5B012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F81D-7F6A-42D5-834B-43310719815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5640" y="2205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SimHei"/>
                <a:ea typeface="SimHei"/>
              </a:rPr>
              <a:t>第八节  咯血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8760" y="1268280"/>
            <a:ext cx="8964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定义 咯血是指喉以下呼吸道和肺组织的出血，血液随咳嗽经口腔咯出，包括大量咯血、血痰或痰中带血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病因 包括支气管疾病、肺部疾病、心血管疾病、全身性疾病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临床表现 一般少量咯血，仅表现为痰中带血。中等量以上咯血，咯血前患者可有胸闷、咽痒、咳嗽等先兆症状，咳出的血多数为鲜红色，伴有泡沫或痰，呈碱性。咯血少则少量血丝痰，多则短时内咯血不止。大量咯血时患者常伴呛咳、出冷汗、脉速、呼吸急促浅表、颜面苍白伴紧张不安和恐惧感。咯血量的评估，每日咯血量在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内为小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中等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上或一次咯血在 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大量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 咯血的特点、伴随症状、咯血对患者的影响、有无咯血相关的疾病史或诱发因素、诊断、治疗与护理经过。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咯血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阐述咯血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咯血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比较咯血与呕血，能正确说出两者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运用本节所学知识，能针对咯血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根据护理评估，能正确作出护理诊断，并列出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咯血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hemoptysi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指喉以下呼吸道和肺组织的出血，血液随咳嗽经口腔咯出，包括大量咯血、血痰或痰中带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42560" y="170028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与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支气管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肺部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血管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全身性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评估咯血的年龄特征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的临床表现：一般少量咯血，仅表现为痰中带血。中等量以上咯血，咯血前患者可有胸闷、咽痒、咳嗽等先兆症状，咳出的血多数为鲜红色，伴有泡沫或痰，呈碱性。大量咯血时患者常伴呛咳、出冷汗、脉速、呼吸急促浅表、颜面苍白伴紧张不安和恐惧感。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量的评估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每日咯血量在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内为小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中等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上或一次咯血在 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大量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的颜色和性状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与呕血的鉴别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并发症的评估：窒息 、肺不张 、继发感染、失血性休克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咯血与呕血的鉴别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371600"/>
          <a:ext cx="8610480" cy="4611600"/>
        </p:xfrm>
        <a:graphic>
          <a:graphicData uri="http://schemas.openxmlformats.org/drawingml/2006/table">
            <a:tbl>
              <a:tblPr/>
              <a:tblGrid>
                <a:gridCol w="2349360"/>
                <a:gridCol w="3052800"/>
                <a:gridCol w="3208320"/>
              </a:tblGrid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评估要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咯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呕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病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支气管扩张症、原发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支气管肺癌、肺结核、肺炎、风心病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消化性溃疡、急性胃黏膜受损、肝硬化、胃癌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出血前驱症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喉部痒感、胸闷、咳嗽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上腹部不适、恶心呕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出血方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咯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呕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血中混有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痰、泡沫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食物残渣、胃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血液颜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鲜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棕黑、暗红、有时鲜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酸碱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碱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酸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黑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无，如咽下可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，可为柏油样便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呕血停止后可持续数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出血后痰液性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常有血痰数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无血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咯血的特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伴随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咯血对患者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有无咯血相关的疾病史或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诊断、治疗与护理经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窒息的危险 与大量咯血有关；与意识障碍有关；与无力咳嗽所致血液潴留在大气道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循环血量不足的危险 与大量咯血所致循环障碍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感染的危险 与血液潴留在支气管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焦虑 与反复咯血久治不愈或对检查结果感到不安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恐惧 与大量咯血或咯血不止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液不足 与大量咯血引起循环血量减少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潜在并发症：休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7:46:28Z</dcterms:modified>
  <cp:revision>223</cp:revision>
  <dc:subject/>
  <dc:title>内科护理学</dc:title>
</cp:coreProperties>
</file>